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B0F-286E-4F3D-A465-EA18E6CF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B98-3456-4D7D-8E94-7D91B97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6B31D-9EA4-4E75-9C84-6D19A07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FC2A0-4D2B-44CB-BE39-D87EE66B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BE305-47FF-4BFC-9A75-559D0CB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50FD7-B782-4C5A-80AE-32104A0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82F34-AB99-4334-A9B5-E1C401A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FDA0-36C5-4C65-B92C-525106CE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C0E81-099C-4BBA-B27F-CCF6134D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8DB3D-1A31-4F9D-AEF5-7911741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3131A-4FAE-49C7-A743-353224C7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D9E84-18AF-4202-A963-04D972E6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638-3F3E-4415-B93F-2A0CA90C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8D65A-FEE2-45B7-921F-96B44D5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AC55B-E686-42A4-9935-CED79E5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E1058-2B50-461A-814D-A4EDB352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1C16F-4EDB-45E5-8CEE-912B500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5E67B-C501-4490-9295-9532171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117B6-A048-4EDE-BD5D-DE8B905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5C997-16C6-4681-8260-A15CE73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686AF-DA9B-462C-AB7F-3B2A7D0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E3090-E71F-4819-BE08-D18BB3BB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7901-490D-41BC-81DE-59FFFE70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F40-0420-41DB-9ACC-5287686F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170FF-9EF9-4926-A535-343B0BDC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E85EF-C82D-4379-93F5-7C2D3F80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F7C6F-9DE3-4940-9D88-1178BB8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6E647-6A0A-4143-9550-71C3732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D5893-3AF5-4D96-8DDE-18197396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9217-AEDA-4494-B36B-24BCED8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12654-569E-431A-B10A-BAF6949B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A0D3D-A9AA-4E1D-9AFF-04E3D5E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72A3B-3356-49E1-868B-D84D05D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222B-BD67-4426-9D89-AA332D2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0850-135A-420F-A6DE-BFB5E2A5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AD5A8-7FAF-4034-93BD-50B72FE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93822-1C24-472E-B677-83EE340F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1E02-5715-4ABC-A85A-F75F5F65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A515A-DF6F-4A57-9395-9B024D06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0191A-3D5F-402F-A4F7-26F673A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A43F3-F204-448B-A417-E3AFC88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B0DD3-9039-4534-B65B-A839EC78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CCAEA-2908-4B4F-BDDB-579A8263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D7A26-FC91-48B1-82AA-F2E79FFB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20CFA-6230-4305-A94F-430A028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1B7-A54F-44F7-8A0C-4FA0D36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EF71-F486-480A-8A3A-24BDD16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C9B44-C01E-4AF9-B5B8-0C820C8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3EAA7-CE17-4A64-9D86-4737C2C9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C18C5-7D71-4EB7-A90E-7440AE42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7A963-B027-4B17-964B-9DC78738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945BC-E5C3-46CB-8795-D268795E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00DE9-77B6-4E22-B372-E384860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DE66D-3072-4497-922D-D500F76F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E3825-1A8B-4821-AE87-1214532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865B4-057E-4547-9900-5F9DA85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08D-6CC7-4E00-8043-FEA6387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DCEE2-F126-4739-85BB-86048E79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B233E-798C-4001-93F2-DAEA37D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93640-80E4-46E8-B9C1-8F7A6AD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13BBC-1894-4A99-A597-CBCDCD6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72E05-C629-4B18-8636-5A92378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AB59A-2C51-4BA7-AC0A-494FEF32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26783-8726-4ECA-9229-97079F7E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AC848-A912-4F00-A36C-1F0F8A3B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07C8D-608D-42B2-96A4-887B1B78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0F922-E960-433D-A86E-A218311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5037-9B0A-4AED-BA19-FC33560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0D53F-4C7A-40EC-A79A-C276ED6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46606-231B-45C3-B61F-E719B18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0A200-D13E-4059-8E8C-56FFEDF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6AF82-8B65-41E0-BEA9-C404E28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44096-DBAC-4493-B74A-5C1D956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5A358-33B3-44DE-BBC2-BA7AD09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29EF1-F6F9-485B-9739-6BDB1BB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09525-57B6-4F21-B023-8ABC532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338CA-3E76-4349-9CB4-482776CE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A3F1D-01E6-455D-9EA3-832E6EA3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DA2-C8B2-4AED-A268-9D6170A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3CA8B-6C05-47B4-A518-5262D684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1DCAF-DBB4-4855-9012-796AECC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521E3-5E02-480D-9FF6-B086F08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CFA7B-BDF2-4DFC-9E50-4D58A418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A5877-9905-491A-93CB-B4468FC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5DF07-C115-4047-9CF5-EA85404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7B8B2-9EEB-4D48-9486-05B03CC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DE1C0-F0A1-4C7A-81C6-F2AC580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FDE85-49C5-4442-93A0-8C635CB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78E2C-76DB-4B67-8A9F-9D5CBA53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676-35BA-4C84-9542-3419A34E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2E1CD-0B4D-4442-957A-30EA58CB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78331-E520-417A-841D-0971A7F6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C860F-5B52-4CF9-8559-6F397F6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1B536-B366-4D48-BB11-6066E12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C1852-3972-4E59-9D3A-4A391443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E1D2C-950D-4676-BDFA-BA7E029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66164-C92B-4924-815D-97818DB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509AD-53AA-46AC-B981-3F7C55E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0419F-016A-490D-9270-43A499B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7D369-1475-4FA8-825A-0A98E14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D8B4-5F44-489A-84A0-6FCC9B1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40787-52C7-4F66-8676-9B4936F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4FE18-4DDB-4607-90BA-A39CB9B0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BC25B-62BD-4802-A784-46757BC4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CC52B-0CBE-44D8-BB30-E711A45A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01BC4-7ED1-41C8-88AD-235ADE4B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8485B-79CA-4EDC-A103-00495B7F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BD69F-34B2-4D9F-AC14-B958807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1A444-3395-48C2-82F4-CF8F871E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C72E4-4819-44DD-9ECE-59C33DE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5C3CA-2819-49B0-A10A-A058B8E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865-2CC2-4972-B689-BEC71541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197E-EA07-49D9-A3CB-120BB36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FFDC2-4DF1-4495-B163-9D2D39D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B14BA-9178-4CD1-81DF-1C917BB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9E8F7-666B-4F51-9DC0-22F75C0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78E6B-92E4-4888-9F92-8D71A6BB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371BC-07D2-4DC6-9A16-13DE5CEA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A0238-9087-40BD-9F4C-7B6D3959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0694D8-EA94-4060-8049-021256F5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69ED8-DE38-4795-AC47-DE2E441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88D03-F5BD-45B6-B15E-1497BDEE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1DD18-B27F-4DB7-A1C9-0E4F474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A141-5B82-4EB8-83D6-CF5C7C5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9432A-6A31-4410-8542-A8AE69D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27BF4-CB7E-4093-97BD-537BC39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6A657-77AC-462A-B9FE-25B98B8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9DAA2-1DAB-4C1A-BCE0-EAC37CE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B5C64-CCDE-4243-A8D2-042A322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4C642-BF64-4D53-954B-CE7447E5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BBB02-C390-499D-B394-F4DC2909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55BB9-0EAF-450B-B19D-1E548AA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D8E5D-27E5-43A2-A5DC-ED42205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B1267-1DEA-42FC-83B0-5F1342E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16D2-8FC7-49F2-9044-70B96B2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CC6AE-A439-47A3-9BD8-867AA52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4F59D-8F94-4880-9A70-5548446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714BF-6AC6-4D3F-B7C0-BA57822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7BAE0-B52E-41EB-84C5-79682C2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730AE-3107-46C2-B20E-E4EDC7B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6B116-1F75-4D61-9EAB-0CA5651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84E81-6402-420D-A332-5DEC10D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0F2A8-DEE4-43F5-BD3E-36490C85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F7974-78A5-4A18-AA40-10F6732A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B24BC-0727-4EB0-A1B5-17298A56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56F-656B-430E-9771-08D99C1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2799A-6272-4159-A682-9B95B72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CAAF7-CAC4-41F7-AFC3-3CAE42C7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0C178-E38C-4763-8EA9-2464889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8FA76-53A1-4887-B321-DC8A136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65412-DEE4-4B82-B56F-34D53DB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2A3CC-C0C4-4163-BF77-E96C92B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9F6E5-E2A0-4C7C-A16E-FE93CEAA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70F8E-C0A6-4AA9-AE73-3C65BB8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B1306-8191-4CCE-A490-3346F7E6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8291A8-0879-44F7-9288-1BF75F9D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1DA-8662-4147-BD19-7FB608BF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1273C-FB49-4715-BE0B-30FCD3F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E9A56-4203-4C0C-8FA8-BAE4E0B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C15BE-5D67-444C-929F-58599487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48FF5-8800-4528-85E3-D8C359D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7027F-1E52-45A0-833C-A588C44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CA590-124D-4C43-9453-F870995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B630A-E5D3-4599-AAC4-9D9DE18A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35D34-9455-4F15-B879-E05E064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D3F73-EDE7-4660-A0E3-1CFB206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CD045-5324-443F-AA4B-71C3BF4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7417-F39D-48B4-A8BC-18192D92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53E17-9815-48AA-A905-F6451CD3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1BCF1-C320-4C76-B5A8-EC0FA012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31530-F504-4515-A043-680E8815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F271F-AB6A-4859-9A2E-F2B0F6E4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E6E5DA-73C3-427E-B3C4-17A8D92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D5CAA-7EB6-4B3F-BD5F-A2A3A57E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07756-C8AE-44CA-8604-BD0E4BE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D4F79E-4FF1-466F-9B9D-CE1FAE8B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3EF5DD-4F3F-4FB1-80B5-7D0B42D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A0A8C-B47D-42E6-9F1A-395D295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78A7-3CAA-41EC-B6D5-654F845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1991B-0D99-4467-99F5-FC41642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B792B-8C9D-4095-92EF-705FC25E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B7F62-FAAE-4348-B928-ACC24EA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16D1E1-52FF-48D6-B488-83F54379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F5AA65-29BC-4D8D-B99B-79F2EF63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E126F-7BDC-4FBB-AFD8-137BBC4E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298DD7-75D2-49C3-958E-680BC26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CCB5C-A3C0-4654-A135-1188BE2F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9F483-D102-4BF0-ACA4-96742EE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0C176D-4254-449C-B115-9C0A4EA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962E-85A7-443D-9A55-50418F65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9DCE34-A9E2-4A27-B8C0-0B271D8F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596896-5C08-4A2A-9AB1-9AD4CFB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5EC918-7B96-4FBD-847F-BD840A9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183A2-5486-43A4-8D71-E62D4A3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43C56-4552-4848-AC9B-C2FF32F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27E38-2596-43DD-B13B-E9C00FBF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91027-4DE5-4B8B-B1FD-A1B59B15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1059-E06C-4A9D-9B1D-F7A7AB5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D037-466B-4236-9F8D-5A143EFB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5A4-CB89-4727-8943-234F760B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7215-B4E8-44EF-BD85-BB35803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193E-25DB-480A-997B-40A4CE7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B6D4-10A3-472B-9834-38A32EC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4E22-A72B-425C-95ED-2DF952D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2407-9D79-4153-B440-3B4201A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F4A4-A5C0-4567-991E-30EBF33A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4D23-BF42-4CBE-B748-05A6151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D1CC-8E69-4AFD-89BA-7DDB0488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FDB6-A5D9-4072-A3CE-C187111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6D90-25F7-47AD-A334-A5E1C2D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D92-6D17-4366-866A-208AB28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D948-E503-4371-AE9E-D782E5E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1D32-D977-4453-8B11-D51D28A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E1C9-1B69-43A5-B277-CE647CE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BD35-03C9-46BA-BAB9-2170AEF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0C3C-0B22-4ABD-AFA2-3C6EED1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C10C-35B2-41EA-8C6E-F947349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E5C40-7955-4DC8-A688-7E5C60D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6507-B579-4761-81F0-B4D4E11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8034-5427-47D1-A1DC-70543902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36AC7-9EB4-4569-8394-9F20FEA0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312-843D-40E9-BE23-FE23CC2E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67FA-4E95-4296-94F4-8F718F4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83A5-CAA2-448C-8DCD-A107C44B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B92E-0D86-41D9-B141-AF42255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5B1A-F679-4F5A-8A3E-E7AD0DA3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CA6E-C1D9-4EAB-B953-52B74EAD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EC90-4FB0-460B-BEAD-709BB78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271D-C436-4DD2-8C40-4AEF638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0DE7-E242-4473-B43F-EB89B774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DA59-7880-4B32-AD24-2829F043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7186-AB0C-4B5C-A678-AE563DEC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56D-F774-41BF-BED9-FF34577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E97A-B4DC-4F68-AC0F-31252E68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7A3C-644C-4ACF-BAB1-2C70A518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3EE17-31F8-4854-A320-26A1839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80AB-61F2-4116-8CB2-C5AEAEE7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3A01-DA55-4035-B934-B465501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17BAB-A21E-4B8C-A9BA-B2AECD6A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1363-BBC6-454D-907A-D8C5C4D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23A9A-5FAD-4C84-82F3-8060473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4AA34-552A-4123-863D-5DAE9DD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CB5B-77C4-4FF5-AE03-86E8B51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E89-9858-4C04-9A17-E2AC6EE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8023-230B-45F0-8634-0914CB8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F31F-BE88-4DB9-8D18-7B8E40C0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16C6-0CC6-423D-BF23-C8A7457E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A4C3-B6F8-4D34-9D8A-C70710C8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16E1-8AD2-43C1-B9A6-094543CF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857E-2BF8-4EB9-A0F0-A5EFC44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24B8-FC1B-4262-9A06-ED8AB71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4F1E-3224-48B2-BF53-4E2F81C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FCE4-A756-4607-BE81-44575C1C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6BC4-139F-4D42-8503-C889400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056-8021-4C53-B488-A9BD780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17A7-4CCE-4CAB-BF74-EEF01BC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2BF7-B7CC-477B-8F7D-425D870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38B6-DC07-4A2C-9A58-BD5A992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DC06B-52C8-4316-821C-28C770D7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A623-FE20-40F0-A3E9-439989BE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CAB7-5062-40EE-B517-D3933F53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46DB-E7AA-43C5-BE55-26FF3F1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985FE-06A3-4772-A5DE-AC25D9D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2215-B7B9-4FE8-A21A-296778FD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ABBD-6F61-4229-A901-667A922E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3FF-7D8F-45C3-A43D-88A803A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CF6C-B48B-483C-8EE2-E65F67D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8D8F-E295-417B-B0FC-32C0858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57E1-56D9-46A2-BA07-282F41A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1E70-6F1D-467E-BB36-82FA322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677E-2DD4-4AF9-B859-5845B22C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CBC4-9D4E-49CD-AF4D-19CD32AF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00480-CDED-48AB-8961-A49AB6F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36BEA-FE14-4022-B885-7DEAD932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50E0A-A967-4B0C-8C25-7C31322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6C1B-12A3-4F36-B5D6-B1F58B4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2B0-5C37-433E-ADB5-43F72CE446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42A-3D71-4334-89AE-737DAEE9D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398-014A-4C81-8842-1198C5340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3C21-2E77-437A-BE7B-B97B202E1C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764F-B227-4795-A99B-D182ED3762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77C-C941-40FD-9321-156788612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5D4-5ED7-4D29-B47F-DB98F9B88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9E9-6EAA-4CE4-905F-A8434E751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9A0-CA22-498D-B469-A8D145008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DA77-33E3-4D1A-8D37-93CD12EF5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0DA-F913-4887-B150-3B9372C04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0A1-A3CB-44E2-9D01-7A8634621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26B4-D33F-4508-B5E2-93CED6802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40F-22CD-459A-8086-976D79885C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B43-8FB5-4C8B-9004-1ABCFA810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7064-6CC7-45A3-9F89-84C1B7E85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2D17-538E-49F4-A51C-5FA76317D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172-D6AD-4BD3-BD77-74B2BEB5D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5B4-1782-4626-900F-7B400A1CA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63A-6B6C-4A8C-9655-F9891B9DD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CE5-870B-4724-9466-8E8D9869D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96B-06E1-4CCA-A4D8-56A3ADA5C3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001-1C24-4F45-8330-81F49313B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AC7-23D8-442F-973A-4379CE80E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B05-25E6-4FCE-9739-78D7C493A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000-2931-4DE7-9356-18269D708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3C01-A9F5-41B4-B680-7322DF3D0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D0F5-572F-4ED1-97E5-16D5A5A7B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1DFE-6934-48B0-B448-332FD71EB2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99B-8413-4052-B43C-606CFDA11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7363-A6C2-48F8-98F9-8F687EE136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F15C-8257-445E-8D5E-BC55C25AE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895-10AD-479B-930C-BCA7A6A513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FDA-D435-4F0B-8250-283A1DAB37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8B9-09E9-4528-A336-01F3F911F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3C5-2BDE-45C6-8262-4F651FD37F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65F-A34D-405A-883B-69F49E5A0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E1A5-7564-4221-9971-88E232ADE1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E03-02F4-435B-82E6-48757FCB3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60B-3D79-4F06-B9FE-7EFAB15D1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BAC-6712-4EE3-8E42-085DDDE284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3EA-C5DB-438C-9DDB-C959893B6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80960" y="2909880"/>
            <a:ext cx="8182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47600" y="1481040"/>
            <a:ext cx="8848800" cy="38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508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227640" y="26370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53240" y="44658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343080" y="909720"/>
            <a:ext cx="8458200" cy="56196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60800" y="2378160"/>
            <a:ext cx="3529080" cy="4146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265880" y="1801800"/>
            <a:ext cx="14097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038240"/>
            <a:ext cx="7981920" cy="47815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2887560" y="1125360"/>
            <a:ext cx="1540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52360" y="865080"/>
            <a:ext cx="8639280" cy="57438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132000" y="350028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842240" y="213372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451640" y="278136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7812000" y="3500280"/>
            <a:ext cx="6764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8"/>
          <a:stretch/>
        </p:blipFill>
        <p:spPr>
          <a:xfrm>
            <a:off x="6012000" y="5013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9"/>
          <a:stretch/>
        </p:blipFill>
        <p:spPr>
          <a:xfrm>
            <a:off x="6012000" y="5445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0"/>
          <a:stretch/>
        </p:blipFill>
        <p:spPr>
          <a:xfrm>
            <a:off x="6026040" y="5877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15960" y="333360"/>
            <a:ext cx="8142120" cy="643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042920" y="5661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631044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525600"/>
            <a:ext cx="8801280" cy="624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71640" y="547380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633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2360" y="824040"/>
            <a:ext cx="8639280" cy="5209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9760" y="1227240"/>
            <a:ext cx="8462880" cy="169056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722600" y="3651120"/>
            <a:ext cx="6562440" cy="2324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90196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3336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4658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781200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795672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63528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708360" y="4869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80400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6443640" y="48690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